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NLAR.WAV" ContentType="audio/x-wav"/>
  <Override PartName="/ppt/media/image6.wmf" ContentType="image/x-wmf"/>
  <Override PartName="/ppt/media/KAMERA.WAV" ContentType="audio/x-wav"/>
  <Override PartName="/ppt/media/image7.wmf" ContentType="image/x-wmf"/>
  <Override PartName="/ppt/media/image5.png" ContentType="image/png"/>
  <Override PartName="/ppt/media/SILAHSES.WAV" ContentType="audio/x-wav"/>
  <Override PartName="/ppt/media/image2.wmf" ContentType="image/x-wmf"/>
  <Override PartName="/ppt/media/image3.wmf" ContentType="image/x-wmf"/>
  <Override PartName="/ppt/media/CIRPMA.WAV" ContentType="audio/x-wav"/>
  <Override PartName="/ppt/media/image12.wmf" ContentType="image/x-wmf"/>
  <Override PartName="/ppt/media/image10.png" ContentType="image/png"/>
  <Override PartName="/ppt/media/image8.wmf" ContentType="image/x-wmf"/>
  <Override PartName="/ppt/media/LAZER.WAV" ContentType="audio/x-wav"/>
  <Override PartName="/ppt/media/image9.wmf" ContentType="image/x-wmf"/>
  <Override PartName="/ppt/media/DAKTILO.WAV" ContentType="audio/x-wav"/>
  <Override PartName="/ppt/media/image1.wmf" ContentType="image/x-wmf"/>
  <Override PartName="/ppt/media/ANISES.WAV" ContentType="audio/x-wav"/>
  <Override PartName="/ppt/media/image11.wmf" ContentType="image/x-wmf"/>
  <Override PartName="/ppt/media/DAVUL.WAV" ContentType="audio/x-wav"/>
  <Override PartName="/ppt/media/image4.jpeg" ContentType="image/jpeg"/>
  <Override PartName="/ppt/media/PATLAM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BA3-7F2B-4013-8EB7-BC337E75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94E-040A-4A0D-8AAC-C6D63FB3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321-18B7-487F-B7F9-10723609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66D-15C9-4E77-ADD8-27B681EC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F95-5B03-4E4F-A07E-DC19F8E4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EA4-566A-4EC2-A582-6B32306E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F16-2CBA-4718-A9CD-D420CFB2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BB5-57C2-4743-9FE5-CDBBE9AA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081-CCFA-4560-A9F4-3B3BD9A7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7D2-EF00-40C6-9EBC-85AC80CA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843-DA1C-4995-9BC9-2AB5C335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D5B-152F-4285-B1CC-40E0DFA1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14BC-3833-411A-AD71-FA791ABA6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audio" Target="../media/DAKTILO.WAV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KAMERA.WAV"/><Relationship Id="rId6" Type="http://schemas.openxmlformats.org/officeDocument/2006/relationships/audio" Target="../media/KAMERA.WAV"/><Relationship Id="rId7" Type="http://schemas.openxmlformats.org/officeDocument/2006/relationships/audio" Target="../media/KAMERA.WAV"/><Relationship Id="rId8" Type="http://schemas.openxmlformats.org/officeDocument/2006/relationships/audio" Target="../media/KAMERA.WAV"/><Relationship Id="rId9" Type="http://schemas.openxmlformats.org/officeDocument/2006/relationships/audio" Target="../media/KAMERA.WAV"/><Relationship Id="rId10" Type="http://schemas.openxmlformats.org/officeDocument/2006/relationships/audio" Target="../media/KAMERA.WAV"/><Relationship Id="rId11" Type="http://schemas.openxmlformats.org/officeDocument/2006/relationships/audio" Target="../media/KAMERA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audio" Target="../media/PATLAMA.WAV"/><Relationship Id="rId7" Type="http://schemas.openxmlformats.org/officeDocument/2006/relationships/audio" Target="../media/DAVUL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ZER.WAV"/><Relationship Id="rId2" Type="http://schemas.openxmlformats.org/officeDocument/2006/relationships/audio" Target="../media/LAZER.WAV"/><Relationship Id="rId3" Type="http://schemas.openxmlformats.org/officeDocument/2006/relationships/audio" Target="../media/LAZER.WAV"/><Relationship Id="rId4" Type="http://schemas.openxmlformats.org/officeDocument/2006/relationships/audio" Target="../media/LAZER.WAV"/><Relationship Id="rId5" Type="http://schemas.openxmlformats.org/officeDocument/2006/relationships/audio" Target="../media/LAZER.WAV"/><Relationship Id="rId6" Type="http://schemas.openxmlformats.org/officeDocument/2006/relationships/audio" Target="../media/LAZER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DAVUL.WAV"/><Relationship Id="rId4" Type="http://schemas.openxmlformats.org/officeDocument/2006/relationships/audio" Target="../media/SILAHS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DAKTILO.WAV"/><Relationship Id="rId3" Type="http://schemas.openxmlformats.org/officeDocument/2006/relationships/audio" Target="../media/PATLAM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Z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NLA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Z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audio" Target="../media/DAVUL.WAV"/><Relationship Id="rId4" Type="http://schemas.openxmlformats.org/officeDocument/2006/relationships/audio" Target="../media/PATLAMA.WAV"/><Relationship Id="rId5" Type="http://schemas.openxmlformats.org/officeDocument/2006/relationships/audio" Target="../media/PATLAMA.WAV"/><Relationship Id="rId6" Type="http://schemas.openxmlformats.org/officeDocument/2006/relationships/audio" Target="../media/PATLAMA.WAV"/><Relationship Id="rId7" Type="http://schemas.openxmlformats.org/officeDocument/2006/relationships/audio" Target="../media/PATLAMA.WAV"/><Relationship Id="rId8" Type="http://schemas.openxmlformats.org/officeDocument/2006/relationships/audio" Target="../media/PATLAMA.WAV"/><Relationship Id="rId9" Type="http://schemas.openxmlformats.org/officeDocument/2006/relationships/audio" Target="../media/PATLAMA.WAV"/><Relationship Id="rId10" Type="http://schemas.openxmlformats.org/officeDocument/2006/relationships/audio" Target="../media/PATLAMA.WAV"/><Relationship Id="rId11" Type="http://schemas.openxmlformats.org/officeDocument/2006/relationships/audio" Target="../media/PATLAMA.WAV"/><Relationship Id="rId12" Type="http://schemas.openxmlformats.org/officeDocument/2006/relationships/audio" Target="../media/PATLAMA.WAV"/><Relationship Id="rId13" Type="http://schemas.openxmlformats.org/officeDocument/2006/relationships/audio" Target="../media/DAVUL.WAV"/><Relationship Id="rId14" Type="http://schemas.openxmlformats.org/officeDocument/2006/relationships/audio" Target="../media/DAVUL.WAV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IRPMA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DAKTILO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NLAR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Z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audio" Target="../media/SILAHSES.WAV"/><Relationship Id="rId4" Type="http://schemas.openxmlformats.org/officeDocument/2006/relationships/audio" Target="../media/SILAHSES.WAV"/><Relationship Id="rId5" Type="http://schemas.openxmlformats.org/officeDocument/2006/relationships/audio" Target="../media/DAVUL.WAV"/><Relationship Id="rId6" Type="http://schemas.openxmlformats.org/officeDocument/2006/relationships/audio" Target="../media/DAVUL.WAV"/><Relationship Id="rId7" Type="http://schemas.openxmlformats.org/officeDocument/2006/relationships/audio" Target="../media/DAVUL.WAV"/><Relationship Id="rId8" Type="http://schemas.openxmlformats.org/officeDocument/2006/relationships/audio" Target="../media/DAVUL.WAV"/><Relationship Id="rId9" Type="http://schemas.openxmlformats.org/officeDocument/2006/relationships/audio" Target="../media/DAVUL.WAV"/><Relationship Id="rId10" Type="http://schemas.openxmlformats.org/officeDocument/2006/relationships/audio" Target="../media/DAVUL.WAV"/><Relationship Id="rId11" Type="http://schemas.openxmlformats.org/officeDocument/2006/relationships/audio" Target="../media/DAVUL.WAV"/><Relationship Id="rId12" Type="http://schemas.openxmlformats.org/officeDocument/2006/relationships/audio" Target="../media/DAVUL.WAV"/><Relationship Id="rId13" Type="http://schemas.openxmlformats.org/officeDocument/2006/relationships/audio" Target="../media/DAVUL.WAV"/><Relationship Id="rId14" Type="http://schemas.openxmlformats.org/officeDocument/2006/relationships/audio" Target="../media/DAVUL.WAV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DAVUL.WAV"/><Relationship Id="rId6" Type="http://schemas.openxmlformats.org/officeDocument/2006/relationships/audio" Target="../media/ANISES.WAV"/><Relationship Id="rId7" Type="http://schemas.openxmlformats.org/officeDocument/2006/relationships/audio" Target="../media/ANISES.WAV"/><Relationship Id="rId8" Type="http://schemas.openxmlformats.org/officeDocument/2006/relationships/audio" Target="../media/ANISES.WAV"/><Relationship Id="rId9" Type="http://schemas.openxmlformats.org/officeDocument/2006/relationships/audio" Target="../media/ANISES.WAV"/><Relationship Id="rId10" Type="http://schemas.openxmlformats.org/officeDocument/2006/relationships/audio" Target="../media/ANISES.WAV"/><Relationship Id="rId11" Type="http://schemas.openxmlformats.org/officeDocument/2006/relationships/audio" Target="../media/ANISES.WAV"/><Relationship Id="rId12" Type="http://schemas.openxmlformats.org/officeDocument/2006/relationships/audio" Target="../media/ANISES.WAV"/><Relationship Id="rId13" Type="http://schemas.openxmlformats.org/officeDocument/2006/relationships/audio" Target="../media/ANISES.WAV"/><Relationship Id="rId14" Type="http://schemas.openxmlformats.org/officeDocument/2006/relationships/audio" Target="../media/DAVUL.WAV"/><Relationship Id="rId15" Type="http://schemas.openxmlformats.org/officeDocument/2006/relationships/audio" Target="../media/DAVUL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AVUL.WAV"/><Relationship Id="rId3" Type="http://schemas.openxmlformats.org/officeDocument/2006/relationships/audio" Target="../media/KAMERA.WAV"/><Relationship Id="rId4" Type="http://schemas.openxmlformats.org/officeDocument/2006/relationships/audio" Target="../media/DAVUL.WAV"/><Relationship Id="rId5" Type="http://schemas.openxmlformats.org/officeDocument/2006/relationships/audio" Target="../media/DAVUL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NLAR.WAV"/><Relationship Id="rId3" Type="http://schemas.openxmlformats.org/officeDocument/2006/relationships/audio" Target="../media/CANLAR.WAV"/><Relationship Id="rId4" Type="http://schemas.openxmlformats.org/officeDocument/2006/relationships/audio" Target="../media/DAVUL.WAV"/><Relationship Id="rId5" Type="http://schemas.openxmlformats.org/officeDocument/2006/relationships/audio" Target="../media/DAVUL.WAV"/><Relationship Id="rId6" Type="http://schemas.openxmlformats.org/officeDocument/2006/relationships/audio" Target="../media/LAZER.WAV"/><Relationship Id="rId7" Type="http://schemas.openxmlformats.org/officeDocument/2006/relationships/audio" Target="../media/CANLAR.WAV"/><Relationship Id="rId8" Type="http://schemas.openxmlformats.org/officeDocument/2006/relationships/audio" Target="../media/CANLAR.WAV"/><Relationship Id="rId9" Type="http://schemas.openxmlformats.org/officeDocument/2006/relationships/audio" Target="../media/CANLA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AVUL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PATLAMA.WAV"/><Relationship Id="rId4" Type="http://schemas.openxmlformats.org/officeDocument/2006/relationships/audio" Target="../media/PATLAMA.WAV"/><Relationship Id="rId5" Type="http://schemas.openxmlformats.org/officeDocument/2006/relationships/audio" Target="../media/KAMERA.WAV"/><Relationship Id="rId6" Type="http://schemas.openxmlformats.org/officeDocument/2006/relationships/audio" Target="../media/KAMERA.WAV"/><Relationship Id="rId7" Type="http://schemas.openxmlformats.org/officeDocument/2006/relationships/audio" Target="../media/CANLAR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6012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Times New Roman"/>
              </a:rPr>
              <a:t>Ya Öğrenen veya Öğrete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Times New Roman"/>
              </a:rPr>
              <a:t>Ya da Öğrenme ortamları inşa eden ol ..!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8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3300"/>
                </a:solidFill>
                <a:latin typeface="Times New Roman"/>
              </a:rPr>
              <a:t>Yoksa Helak Olursun..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6858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ANKARA ÜNİVERSİTESİ ‘nin Yaptığı    Bir Araştırma</a:t>
            </a:r>
            <a:br>
              <a:rPr sz="3600"/>
            </a:br>
            <a:r>
              <a:rPr b="1" lang="tr-TR" sz="4000" spc="-1" strike="noStrike" u="sng">
                <a:solidFill>
                  <a:srgbClr val="000000"/>
                </a:solidFill>
                <a:uFillTx/>
                <a:latin typeface="Times New Roman"/>
              </a:rPr>
              <a:t>KONU</a:t>
            </a:r>
            <a:br>
              <a:rPr sz="3600"/>
            </a:br>
            <a:r>
              <a:rPr b="0" lang="tr-TR" sz="3600" spc="-1" strike="noStrike">
                <a:solidFill>
                  <a:srgbClr val="000000"/>
                </a:solidFill>
                <a:latin typeface="Times New Roman"/>
              </a:rPr>
              <a:t>İlköğretim Okulları Ders Kitaplarında Kelime ve Kavram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52320" y="0"/>
            <a:ext cx="5791320" cy="6858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DERS KİTAPLARINDA Kİ KELİME KAVRAM SAY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A.B.D.              Ders kitaplarında 71.6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ALMANYA    Ders kitaplarında 70.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JAPONYA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    Ders kitaplarında  44.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İTALYA        Ders kitaplarında   31.7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FRANSA       Ders kitaplarında   30.1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SUUDİ ARABİSTAN   Dre. Kit. 13.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TÜRKİYE    Ders kitaplarında    7.2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DERS KİTAPLARIMIZ                  RESİM, FOTOĞRAF, KARAKATÜR, AFİŞ,ŞEMA, VE TABLO    AÇISINDAN DA OLDUKÇA FAKİ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3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3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3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3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3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5554800" cy="6553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114800" y="-857160"/>
            <a:ext cx="5029200" cy="771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CABA..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EN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AÇ KELİM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İLİYOR VE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GÜNLÜK HAYATTA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ULLANIYORUM..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4691160"/>
            <a:ext cx="373356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nutmayalı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Kâmus Namustu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ÜRKİYEDE İŞİN KÖTÜSÜ YARIŞMA KAYGISI DA Y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Yılda kişi başına 142 $ harcayarak, dünyada Eğitime en az pay ayıran 5. ülkeyi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Bilgisayar kullanmada 140 ülke içinde 20. Sıradayı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Times New Roman"/>
              </a:rPr>
              <a:t>Bilgi sahibine gerekli değeri vermediğimizden, Üst seviyede yetişmiş her 100 kişiden 59 u yurt dışına gidi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Özel okullaşma oranı gün geçtikçe aşağıya gidi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Ba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Ba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Ba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Bach"/>
              </a:rPr>
              <a:t>SİLAHLANMA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Silahlanmaya 30 yılda 150 Milyar $ Harcadı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YAZIK DEĞİL Mİ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6600"/>
              </a:buClr>
              <a:buFont typeface="Ba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ach"/>
              </a:rPr>
              <a:t>Bu fakir Milletin parasını Amerika, İsrail, Almanya.. Gibi ülkelere peşkeş çekiyoru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-1066680"/>
          <a:ext cx="3390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1066680"/>
                    <a:ext cx="3390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LAH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993300"/>
                </a:solidFill>
                <a:latin typeface="Times New Roman"/>
              </a:rPr>
              <a:t>TEK BAŞINA OKUMAK DA YETMİYOR..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00"/>
                </a:solidFill>
                <a:latin typeface="Times New Roman"/>
              </a:rPr>
              <a:t>Düşünmeyi Öğrenme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00"/>
                </a:solidFill>
                <a:latin typeface="Times New Roman"/>
              </a:rPr>
              <a:t>Yeni fikirler üretme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00"/>
                </a:solidFill>
                <a:latin typeface="Times New Roman"/>
              </a:rPr>
              <a:t>Yeni analiz ve sentezler  yapabilme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6600"/>
                </a:solidFill>
                <a:latin typeface="Times New Roman"/>
              </a:rPr>
              <a:t>Keşif ve icadlarda bulunma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EN ÖNEMLİSİ DÜŞÜNCEYE SAYGILI OLMAK GEREKİ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Times New Roman"/>
              </a:rPr>
              <a:t>Kısacası; Ülkemizde Düşünce, İnanç ve Teşebbüs hürriyeti olmalı..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EN ÇOK KİTAP OKUYAN TOPLUMLARIN EN BAŞARILI TOPLUMLAR OLMASI TESADÜF DEĞİLDİ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MOKRASİNİN EN BAŞARILI İŞLEDİĞİ TOPLUMLAR EN ÇOK KİTAP OKUYAN TOPLUMLAR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ÖRÜŞLERİ, ANALİZLERİ,TEZLERİ DÜNYADA CİDDİYE ALINAN KAÇ POLİTİKACIMIZ VAR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DÜNYADA DİNLENİLEN KAÇ GAZETECİMİZ, KAÇ  İŞ ADAMIMIZ, KAÇ DÜŞÜNÜRÜMÜZ, KAÇ EĞİTİMCİMİZ VAR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OKUYAN, DÜŞÜNEN VE DÜŞÜNCELERİNİ PRATİĞE DÖKEN GÜÇLÜ BİR TOPLUM OLMAYA MECBURUZ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367760" y="304920"/>
            <a:ext cx="177624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OKUMAK KUR’AN-I KERİM’DE ALLAH’IN EMRİ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OKUYAN ALLAH MARİFETİNE ER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ALLAH MARİFETİNE ERMEYEN CENNETE GİREMEZ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BU OKUMAYAN CENNETE GİREMEZ DEMEKTİR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Bookman Old Style"/>
              </a:rPr>
              <a:t>OKUMAMAK ALLAH’A İSYAN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KALKINMIŞ ÜLKELER ALLAH’IN EMİRLERİNE UYUYOR, BİZİM GİBİ AZ GELİŞMİŞ ÜLKELER İSE ALLAH’IN EMİRLERİNE UYMU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İŞTE GERİ KALMANIN SEBEBİ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Bizler Müslüman olmakla; Düşünen ve kitaba, ilme, alime büyük değer veren bir millet oldu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Nizamü’l-Mülk, Fatih, Yavuz.. gibi devlet büyüklerinin en büyük özellikleri bazen günde 8 saat kitap okumaları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Sonradan duraklama ve gerileme ile beraber kitap okumaz hale geldi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Matbaanın Türkiye’ye gelişinden (1727) 19. Asrın sonlarına kadar, basılan kitap sayısı 5 bin cıvarında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ff33"/>
                </a:solidFill>
                <a:latin typeface="Times New Roman"/>
              </a:rPr>
              <a:t>20. Yüzyılın başlarında ancak basılan kitaplarla beraber tüm Osmanlı’nın  kitap mirası 35-40 bin cıvarında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ff33"/>
                </a:solidFill>
                <a:latin typeface="Times New Roman"/>
              </a:rPr>
              <a:t>1930-1932 yıllarında bir kitap 300 adet basıldımı sevinilird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ff33"/>
                </a:solidFill>
                <a:latin typeface="Times New Roman"/>
              </a:rPr>
              <a:t>1940-1946 yılları arasında Türkiye’de gazete trajı, İkinci dünya savaşı gibi toplumu ilgilendiren çok önemli bir hadise olmasına rağmen, 30 bin cıvarında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99ff33"/>
                </a:solidFill>
                <a:latin typeface="Times New Roman"/>
              </a:rPr>
              <a:t>Bu traj ancak 1947 de 70 bine doğru çıkmışt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br>
              <a:rPr sz="2800"/>
            </a:br>
            <a:r>
              <a:rPr b="0" i="1" lang="en-US" sz="2800" spc="-1" strike="noStrike">
                <a:solidFill>
                  <a:srgbClr val="ff0066"/>
                </a:solidFill>
                <a:latin typeface="Arial Black"/>
              </a:rPr>
              <a:t>OSMANLILAR DÜNYAYI YÖNETİRKEN, EN ÇOK OKUYAN,EN ÇOK YAZAN, EN BİLGİLİ VE EN ÜSTÜN MİLLET İDİL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en-US" sz="2800" spc="-1" strike="noStrike">
                <a:solidFill>
                  <a:srgbClr val="3399ff"/>
                </a:solidFill>
                <a:latin typeface="Arial Black"/>
              </a:rPr>
              <a:t>FATİH, YAVUZ VE KANUNİ ..GİBİ BİRÇOK PADİŞAHIN ŞİİR KİTAPLARI BİLE VARDI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2800" spc="-1" strike="noStrike" u="sng">
                <a:solidFill>
                  <a:srgbClr val="009900"/>
                </a:solidFill>
                <a:uFillTx/>
                <a:latin typeface="Arial Black"/>
              </a:rPr>
              <a:t>BİLGİSİZLİK VE CEHALET İNSANI YÜKSELTMEZ ANCAK KÜÇÜK DÜŞÜRÜ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lang="en-US" sz="2800" spc="-1" strike="noStrike">
                <a:solidFill>
                  <a:srgbClr val="ff00ff"/>
                </a:solidFill>
                <a:latin typeface="Arial Black"/>
              </a:rPr>
              <a:t>ÇEÇENİSTANA BU GÜN YARDIM EDEMİYORSAK, KOSAVAYA NATONUN YARDIM ELİNİ UZATMASINI BEKLİYORSAK, BU BİZİM BİLGİSİZLİĞİMİZDEN VE GÜÇSÜZLÜĞÜMÜZDENDİ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i="1" lang="en-US" sz="2800" spc="-1" strike="noStrike">
                <a:solidFill>
                  <a:srgbClr val="0066cc"/>
                </a:solidFill>
                <a:latin typeface="Arial Black"/>
              </a:rPr>
              <a:t>BİLMEK, DAHA FAZLA ÖĞRENMEK  İNSANA ÖYLE BİR HAZ VERİR Kİ TARİF EDİLMEZ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1995 YILINDA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 KİTABA KİM NE KADAR PARA VERMİŞ 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BİLMEK İSTİYORMUSUNU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91304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KİŞİ BAŞ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Norveç’li      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137 D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Alman          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122  D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Belçika’lı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100  D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Avusturya’lı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100 D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Güney Kore’li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39 D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spanya’lı      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39 Dol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ff0066"/>
                </a:solidFill>
                <a:uFillTx/>
                <a:latin typeface="Times New Roman"/>
              </a:rPr>
              <a:t>Dünya Ortalaması  </a:t>
            </a:r>
            <a:r>
              <a:rPr b="0" lang="tr-TR" sz="2800" spc="-1" strike="noStrike" u="sng">
                <a:solidFill>
                  <a:srgbClr val="ff0066"/>
                </a:solidFill>
                <a:uFillTx/>
                <a:latin typeface="Times New Roman"/>
              </a:rPr>
              <a:t>	</a:t>
            </a:r>
            <a:r>
              <a:rPr b="0" lang="tr-TR" sz="2800" spc="-1" strike="noStrike" u="sng">
                <a:solidFill>
                  <a:srgbClr val="ff0066"/>
                </a:solidFill>
                <a:uFillTx/>
                <a:latin typeface="Times New Roman"/>
              </a:rPr>
              <a:t>1,3 Dola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Türkiye’li     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0.45 Dolar( 45 S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286760" y="21337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5867280"/>
            <a:ext cx="1042920" cy="1043280"/>
          </a:xfrm>
          <a:custGeom>
            <a:avLst/>
            <a:gdLst>
              <a:gd name="textAreaLeft" fmla="*/ 153720 w 1042920"/>
              <a:gd name="textAreaRight" fmla="*/ 889200 w 1042920"/>
              <a:gd name="textAreaTop" fmla="*/ 153720 h 1043280"/>
              <a:gd name="textAreaBottom" fmla="*/ 8895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411" y="3189"/>
                </a:lnTo>
                <a:lnTo>
                  <a:pt x="3189" y="3189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411" y="18418"/>
                </a:lnTo>
                <a:lnTo>
                  <a:pt x="18411" y="3189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189" y="18418"/>
                </a:lnTo>
                <a:lnTo>
                  <a:pt x="18411" y="1841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189" y="3189"/>
                </a:lnTo>
                <a:lnTo>
                  <a:pt x="3189" y="18418"/>
                </a:lnTo>
                <a:close/>
              </a:path>
              <a:path fill="darken" w="21600" h="21607">
                <a:moveTo>
                  <a:pt x="10800" y="14045"/>
                </a:moveTo>
                <a:arcTo wR="1191" hR="1191" stAng="16200000" swAng="-5400000"/>
                <a:arcTo wR="1191" hR="1191" stAng="10800000" swAng="-5400000"/>
                <a:arcTo wR="1191" hR="1191" stAng="5400000" swAng="-5400000"/>
                <a:arcTo wR="1191" hR="1191" stAng="0" swAng="-5400000"/>
                <a:close/>
              </a:path>
              <a:path fill="darken" w="21600" h="21607">
                <a:moveTo>
                  <a:pt x="11695" y="13623"/>
                </a:moveTo>
                <a:lnTo>
                  <a:pt x="11695" y="12037"/>
                </a:lnTo>
                <a:cubicBezTo>
                  <a:pt x="11695" y="11368"/>
                  <a:pt x="11963" y="10804"/>
                  <a:pt x="12449" y="10804"/>
                </a:cubicBezTo>
                <a:cubicBezTo>
                  <a:pt x="13365" y="10804"/>
                  <a:pt x="14091" y="9697"/>
                  <a:pt x="14091" y="8415"/>
                </a:cubicBezTo>
                <a:cubicBezTo>
                  <a:pt x="14091" y="6540"/>
                  <a:pt x="12590" y="5131"/>
                  <a:pt x="10800" y="5131"/>
                </a:cubicBezTo>
                <a:cubicBezTo>
                  <a:pt x="9010" y="5131"/>
                  <a:pt x="7657" y="6540"/>
                  <a:pt x="7657" y="8415"/>
                </a:cubicBezTo>
                <a:lnTo>
                  <a:pt x="9158" y="8415"/>
                </a:lnTo>
                <a:cubicBezTo>
                  <a:pt x="9158" y="7492"/>
                  <a:pt x="9905" y="6773"/>
                  <a:pt x="10800" y="6773"/>
                </a:cubicBezTo>
                <a:cubicBezTo>
                  <a:pt x="11695" y="6773"/>
                  <a:pt x="12449" y="7492"/>
                  <a:pt x="12449" y="8415"/>
                </a:cubicBezTo>
                <a:cubicBezTo>
                  <a:pt x="12449" y="9014"/>
                  <a:pt x="12069" y="9606"/>
                  <a:pt x="11695" y="9606"/>
                </a:cubicBezTo>
                <a:cubicBezTo>
                  <a:pt x="10800" y="9606"/>
                  <a:pt x="9905" y="10804"/>
                  <a:pt x="9905" y="12037"/>
                </a:cubicBezTo>
                <a:lnTo>
                  <a:pt x="9905" y="1362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İNANIYORSANIZ ÜSTÜNSÜNÜZ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ÜSTÜN OLMAK İÇİN ÇOK OKUMAK GEREKİR.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DÜNYAYLA YARIŞMAK İÇİN OKUMALIYIZ.</a:t>
            </a:r>
            <a:br>
              <a:rPr sz="3200"/>
            </a:br>
            <a:br>
              <a:rPr sz="3200"/>
            </a:br>
            <a:r>
              <a:rPr b="1" lang="en-US" sz="3600" spc="-1" strike="noStrike" u="sng">
                <a:solidFill>
                  <a:srgbClr val="ff0066"/>
                </a:solidFill>
                <a:uFillTx/>
                <a:latin typeface="Bookman Old Style"/>
              </a:rPr>
              <a:t>UNUTMAYALIM..!</a:t>
            </a:r>
            <a:br>
              <a:rPr sz="3600"/>
            </a:b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SADECE HIRSIZLIK, SÖMÜRGECİLİK, YALANCILIK GÜNAH DEĞİL..! TENBELLİK, </a:t>
            </a:r>
            <a:r>
              <a:rPr b="1" i="1" lang="en-US" sz="3200" spc="-1" strike="noStrike">
                <a:solidFill>
                  <a:srgbClr val="993300"/>
                </a:solidFill>
                <a:latin typeface="Bookman Old Style"/>
              </a:rPr>
              <a:t>KABİLİYETLERİNİ GELİŞTİRMEMEK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, CAHİLLİK, BECERESİZLİK DE GÜNAHTIR</a:t>
            </a:r>
            <a:r>
              <a:rPr b="1" i="1" lang="en-US" sz="3200" spc="-1" strike="noStrike">
                <a:solidFill>
                  <a:srgbClr val="000000"/>
                </a:solidFill>
                <a:latin typeface="Beethove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Türk Toplumunun ekonomik, sosyal ve siyasi şartlarında fevkalade değişiklikler olmasına rağmen, Kitap, dergi ve gazete okumada problemlerimiz devam edi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Milli Eğitim Bakanlığının 1993 yılında yaptırdığı bir ankete göre: Gençlerin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%61 i son bir ayda hiç kitap okumamış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%13.4 ü son bir ayda bir kitap okumuş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ccccff"/>
                </a:solidFill>
                <a:latin typeface="Times New Roman"/>
              </a:rPr>
              <a:t>Ülkemizde okumaya aday Üniversite Gençleri arasında Kitap okuma oranı % 37.1 di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IRP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1993 yılında yapılan bir başka araştır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Yaz aylarında nüfusu 300 bini geçen                          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BODRUM ilçesin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Kahvehane sayısı:        127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İçkili Restoran sayısı : 230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Kafe- Bar.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103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Disko: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 12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Gazino: 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  3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Kumarhane: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  2 ad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Kitapçı dükkanı sayısı: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tr-TR" sz="3600" spc="-1" strike="noStrike">
                <a:solidFill>
                  <a:srgbClr val="660066"/>
                </a:solidFill>
                <a:latin typeface="Times New Roman"/>
              </a:rPr>
              <a:t>  2 ad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ÜZERİNDE DÜŞÜNÜLMES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GEREKEN BİR KONU 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1973-1975 Yılları arasında Türkiye’de 30 bin kitapçı varken; 1993 yılında bu sayının 3500 e düşmüş olmasıdı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Kalan kitapçılar da kaset, bant, oyuncak, kırtasiye satışlarıyla ayakta kalmaya çalışıyorl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Türkiye’de 1983 yılında 7.180 kitap basıldığı halde 1992 yılında bu sayı 6.151 e düşmüştü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Türkiye’de verilen bunca promosyonlara rağmen hala gazetelerin toplan trajı istenilen seviyeye gelmiy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Günlük Gazete  trajı Türkiye’de     3 mil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Günlük Gazete trajı Japonya’da    68 mil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A.B.D  de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tr-TR" sz="4400" spc="-1" strike="noStrike">
                <a:solidFill>
                  <a:srgbClr val="0000cc"/>
                </a:solidFill>
                <a:latin typeface="Times New Roman"/>
              </a:rPr>
              <a:t>  63 mil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Yapılan bir araştırmaya gö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1993 yılı BODRUM’da içilen içk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428.572 şişe yerli, 55.715 şişe Yabancı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Tüketilen sigar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000000"/>
                </a:solidFill>
                <a:latin typeface="Times New Roman"/>
              </a:rPr>
              <a:t>6.100.000 paket yerli, 2.400.000 paket yabanc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0" y="0"/>
            <a:ext cx="96012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3300"/>
                </a:solidFill>
                <a:latin typeface="Times New Roman"/>
              </a:rPr>
              <a:t>Alman Bild Der Wissenschaft Dergisine Yer alan İlginç Tahminlerden Bazılar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01 Avrupa ilk iyon motorlu uyduyu uzaya fırlatac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02 Cep Telefonuyla Dünya çapında görüntülü konfer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05 AIDS tedavisinde başarı yakalan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09 Şeker hastalığının nedeni bulun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0 ABD. Semalarında Uçan otomobiller görünec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2 Elektronik tercümanlar anında bire bir çeviri yap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5 Kan tahlilleri damarların içinde yüzen küçük aletlerle yapıl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6 Mars Gezegenine ilk insan ayakları bas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66"/>
                </a:solidFill>
                <a:latin typeface="Times New Roman"/>
              </a:rPr>
              <a:t>Yıl 2019 Alzheimer Hastalığının tedavisi bulun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993300"/>
                </a:solidFill>
                <a:latin typeface="Times New Roman"/>
              </a:rPr>
              <a:t>Alman Bild Der Wissenschaft Dergisine Yer alan İlginç Tahminlerden Bazıları</a:t>
            </a:r>
            <a:br>
              <a:rPr sz="40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25 Ayrıntılı protez el-ayak yapıl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28 Dünya nüfusu 8 milyar ol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40 Robotların aklı ve şuuru ol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50 Atom çekirdeğini eriten ilk santral kurul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61 Halley kuyruklu yıldızı yine dünyaya yaklaşaca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081  Tam güneş tutulması Almanya’nın güneyinde gözlemlenecek.</a:t>
            </a:r>
            <a:br>
              <a:rPr sz="2800"/>
            </a:br>
            <a:r>
              <a:rPr b="0" lang="tr-TR" sz="2800" spc="-1" strike="noStrike">
                <a:solidFill>
                  <a:srgbClr val="993300"/>
                </a:solidFill>
                <a:latin typeface="Times New Roman"/>
              </a:rPr>
              <a:t>Yıl 2100 Deniz seviyesi bugünkünden 96 metre daha yukarıda olac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Times New Roman"/>
              </a:rPr>
              <a:t>KİTAP OKUMAK İÇİ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809880" cy="2903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Verdana"/>
              </a:rPr>
              <a:t>Türk’ün ayırdığı zamanın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300 katını bir norveçli ayırı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210 katını bir Amerika’lı ayırı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87  katını bir İngiliz ayırı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87 katını bir Japon ayırıy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Dünya ortalaması bile bizim                                   ayırdığımız zamandan 3 kat fazla..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u="sng">
                <a:solidFill>
                  <a:srgbClr val="ff0066"/>
                </a:solidFill>
                <a:uFillTx/>
                <a:latin typeface="Times New Roman"/>
              </a:rPr>
              <a:t>KİTAP OKUMAMIZ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1" lang="tr-TR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OBLEM VA A A AR.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96252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410080" y="2438280"/>
            <a:ext cx="348624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ULAK TIKAMAYIN..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ILAH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LAH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75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3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3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3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3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3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3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3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Black"/>
              </a:rPr>
              <a:t>LÜTFEN DİKKAT EDİN..!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 ELİN OĞLU MİLYAR DOLAR </a:t>
            </a:r>
            <a:br>
              <a:rPr sz="3200"/>
            </a:br>
            <a:r>
              <a:rPr b="1" lang="en-US" sz="3200" spc="-1" strike="noStrike">
                <a:solidFill>
                  <a:srgbClr val="ff00ff"/>
                </a:solidFill>
                <a:latin typeface="Arial Black"/>
              </a:rPr>
              <a:t>BİZ İSE MİLYON DOLAR HARCIYORU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4120" y="29908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5 yılı kitap piyasasının cirosu 80 Milyar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 önceki seneye göre %8 oranında artmış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ıllık ciro Amerika 25.5 Milyar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ıllık ciro Japonya 10.5 Milyar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ıllık ciro Almanya 10 Milyar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ıllık ciro Türkiye 30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Milyo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Elbette daha çok okuyan                                                      daha bilgili olacaktı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Bilgili insanların, az bilgili                                      insanlardan daha başarılı                                                         olacağı kesindir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2913120"/>
            <a:ext cx="3886200" cy="394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410080" y="2514600"/>
            <a:ext cx="3476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NLAR GALİ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7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3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3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3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NIS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3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3276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986 Yılı Raporu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0 MİLYONLUK TÜRKİYE’DE BASILAN KİTAP SAYISI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9 MİLYONLUK YUNANİSTAN’DA BASILAN K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0" y="2133360"/>
            <a:ext cx="4114800" cy="472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97Yılında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ALMANYA’DA SEKSENBİN KİTAP BASILIRKEN TÜRKİYE’DE BASILAN KİTAP SAYISI ALTIBİN CIVARI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5029200" cy="3581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952880" y="304920"/>
            <a:ext cx="41911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İSTATİSTİKLER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Ö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3657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KİŞİ BAŞINA DÜŞEN KİTAP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(Bir yılda basılan kitap sayısına göre)</a:t>
            </a:r>
            <a:br>
              <a:rPr sz="1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İsrail        1169 kişiye bir kitap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manya  1022 kişiye bir kitap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Japonya     600  kişiye bir kitap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ürkiye 10.600 kişiye bir kita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33920"/>
            <a:ext cx="2743200" cy="3124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43200" y="3657600"/>
            <a:ext cx="6400800" cy="3200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1990 SENESİNDE İRAN’DA 6289 KİTAP BASILMI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1992 SENESİNDE TÜRKİYE’DE 6151 KİTAP BASILMI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U SAYI 2000 TÜRKİYE’SİNDE DE PEK FARKLI DEĞİ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62720" y="0"/>
            <a:ext cx="35812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ER YI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-6 BİN KİTAP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YETERM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2514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Bir Japon bir yılda ortalama  25 kitap oku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Bir İsviçre’li yılda ortalama  10 kitap oku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Bir Fransız yılda    ortalama   7 kitap oku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Türkiye’de 6 Türk’e yılda bir kitap düşü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Halen Yurdumuzda 95 kişiye bir kahvehan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ff99"/>
                </a:solidFill>
                <a:latin typeface="Times New Roman"/>
              </a:rPr>
              <a:t>65.000 kişiye bir kütüphane düşü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Milli Eğitim Bakanlığının 1993 yılında yaptırdığı bir ankette niçin kitap okumuyuruz sorusuna verilen cevapl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50,2 kitap okuma alışkanlığım yo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16,6 yeterince zamanım yok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10,6 Boş zamanım çok yoğun geçiy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10,5 T.v. Video... Tercih ediyorum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4,6 kitap fiyatları pahalı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3,4 derslerim çok yoğu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6666"/>
                </a:solidFill>
                <a:latin typeface="Times New Roman"/>
              </a:rPr>
              <a:t>%1,9 diğer sebepler ve geriye kalan cevapsı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V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15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ff0066"/>
                </a:solidFill>
                <a:latin typeface="Arial Black"/>
              </a:rPr>
              <a:t>KAÇ KİŞİ GAZETE OKUYOR</a:t>
            </a:r>
            <a:br>
              <a:rPr sz="3200"/>
            </a:br>
            <a:br>
              <a:rPr sz="3200"/>
            </a:br>
            <a:r>
              <a:rPr b="0" lang="tr-TR" sz="3200" spc="-1" strike="noStrike">
                <a:solidFill>
                  <a:srgbClr val="ff0066"/>
                </a:solidFill>
                <a:latin typeface="Times New Roman"/>
              </a:rPr>
              <a:t>(Dünyada Gazete okumada Türkiye yine en kötüler arasında</a:t>
            </a:r>
            <a:r>
              <a:rPr b="0" lang="tr-TR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br>
              <a:rPr sz="1600"/>
            </a:br>
            <a:br>
              <a:rPr sz="16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NORVEÇ’liden  558 i Gazete okuyor</a:t>
            </a:r>
            <a:r>
              <a:rPr b="0" lang="tr-T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   JAPON’dan     557 si Gazete okuyor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 Bin      FİNLİ’den    445 i Gazete okuyor Bin İSVEÇ’liden      430 i Gazete okuyor Bin KOSTARİKA’lıdan 412 Gazete okuy.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ARJANTİN’liden 62 si Gazete okuyor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TÜRK’ten             61 i Gazete okuyor.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ÇİN’liden              36 sı Gazete okuyor</a:t>
            </a:r>
            <a:br>
              <a:rPr sz="2400"/>
            </a:br>
            <a:r>
              <a:rPr b="1" lang="tr-TR" sz="2400" spc="-1" strike="noStrike">
                <a:solidFill>
                  <a:srgbClr val="ff0066"/>
                </a:solidFill>
                <a:latin typeface="Times New Roman"/>
              </a:rPr>
              <a:t>Bin UKRAYNA’lıdan   3 ü Gazete oku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67280" y="2971800"/>
            <a:ext cx="3503880" cy="38862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6553080" y="3581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Gaz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724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ATLAM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NL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1T07:05:29Z</dcterms:created>
  <dc:creator>ALI</dc:creator>
  <dc:description/>
  <dc:language>en-US</dc:language>
  <cp:lastModifiedBy>esim</cp:lastModifiedBy>
  <dcterms:modified xsi:type="dcterms:W3CDTF">2009-04-06T13:01:48Z</dcterms:modified>
  <cp:revision>68</cp:revision>
  <dc:subject/>
  <dc:title>Slayt Başlığı Yok</dc:title>
</cp:coreProperties>
</file>